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993-51B0-4452-AF99-DCE2E7E6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2E4-6866-49AE-854D-01A7F7E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85071-A25F-4133-8D4C-8824D2B5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35BC8-490C-4886-8A23-C6DB2E6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350FD-9409-4C7B-B3CA-F67AA4E2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2E4E8-EC1F-44E9-9FA0-B86BC9D6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31C79-6316-40B7-A603-C8666886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FC220-2AB9-4AEF-8653-778CB2EC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052F8-5631-4158-BC69-1800CAC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7B895-785F-47C1-A7FC-1443FDA8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0EFAC-3017-487C-8C0A-A4362789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F18FC-88F5-4648-854E-4C092765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C3B-2699-4E4C-B56A-98857FD8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75ED8-3307-409F-A70C-B07D4123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F54F2-6B9F-49C0-9BAA-8006906B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4274A-939E-4C1D-833D-91E2612C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D3062-1975-43B0-8D9F-71AEE439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66817-C29A-4962-A3DF-D8FC6162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CBC9D-ED49-4452-BF05-D521EC9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32CFA-BDC4-43B5-8D19-5BF07284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377B6-75DF-4822-84D7-7FEE7D57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96057-D37F-4954-A88F-AE38D539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40EF5-1C74-4B8B-946E-326DFB05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80E-73D5-4D14-8779-AD45E324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45831-9625-4D73-83AF-184096B9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1DA11-B2A4-4175-9D35-0E4A468C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C9307-EDF7-42C0-9317-985FF6DE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73D20-2B9A-4079-94B8-10D983B7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87BBC-D9A2-4981-B95C-819C5F5C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88793-233D-411B-838E-7BEEBC27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8DAD9-8414-4E01-A9DA-214017B0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D85F5-EAB2-4D87-95B1-5B867671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773FB-4618-4E55-A05F-9CFFCBA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A0E2C-2E68-4E6A-9B1C-80A31D3F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A4CC-46EB-4A86-B504-1C6F8297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F01CB-54F2-4DD8-8513-1B15B1E6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75768-4588-4532-B14F-938D6F07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C2084-3D3B-4B32-9A3A-68235857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7572D-CD42-4EDC-8CBD-F9D34E2F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6ACC7-8D9A-4892-825A-BA4C63F4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50A78-9A0C-4433-B3E4-3C17149D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B1AE7-039A-41AB-9EF2-E27A36BC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1D9FA-F7E9-4680-86E4-D151008C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0E72C-BA74-4D6F-B82B-1C9398FA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2BCB8-98EE-4D24-A11A-CC383589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01AD-C90B-408D-97C5-D8D8359B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3F817-F72B-4061-86AE-7B7A1A56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E7604-EA8E-4C66-B812-6E088BEC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D6BEE-EB5F-4FC8-AA09-B6C8257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CEEE0-75FE-4DC1-A976-221D2313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5DE0F-B7C9-453D-AA79-EF0F3B6A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3522-D689-4F20-B139-B87BA6C6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9E67-8CC6-4C09-B8C5-26DC206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537E-0C20-4AD8-88C4-9AE14C20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227-A9A2-4A77-B69D-FEDCA613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F658-E6CA-423F-9EEB-3A314D9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C3A-0B3B-450E-A8BB-B271082B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76EF-C6AD-445C-9224-39ADDA89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6C76-E5D4-4035-9CE5-917120D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75E3-FB28-40D3-8E5E-1A174C33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4216-633F-44F2-AC75-3CA4C315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D361-289C-41C1-8EEC-5D0278EA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2CC3-C2FE-4DE1-AA90-3DBE2EA2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6D40-0F17-4419-8C3A-C85CF3EA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8496-5BAB-4816-92D5-F0A74D8A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68CE-1DF0-49A7-9CC8-022024C5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EC8D-EE07-411A-BCA5-88AF282E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1C5-B3CC-4F63-B003-0F8CA464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B29E-E46C-44FC-8CBB-AF05C1E4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EF6D-7869-43FA-9036-A9296F1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277F-11F4-4AED-8B2F-B85446DF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1D16-E93E-4A21-9647-D674ACE4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D353-33B5-4FEC-A9A6-8E8D1C1D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330A-E4FC-417E-A006-74ACCCE9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4E05-C677-41DA-944C-76A81F21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5E746-8860-4F63-A926-0478209D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B597C-FFE7-42DF-9E41-3B10F6E2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DB89-E1FC-4C18-9F3D-794E34C3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434-60D2-4383-BA35-AA571682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0E4E-A1ED-4A31-993A-42375049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27A52-AE51-4940-8CCF-F4A68A5D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623F2-3560-4FC3-95C2-E2104CF6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46FD-72DE-4278-A6E2-648F19AF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927F-9A57-4A7A-97DE-86B7DB3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BF32-02F2-430D-BFC6-FDB7F09B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90612-6079-405B-90A7-E2D9FD72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FB3C-5A15-468C-B865-A3204CB5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D5EA6-68A7-49F8-AABF-F28D3ABE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BB04A-96D0-4AAC-A12B-B5A4EA47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E81-3652-4273-846A-54C0B30E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6EDCA-64E9-4177-B1BE-FE48E13D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ABF76-EBF5-4955-91F7-E084E5D6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D58B4-FD75-4834-9DFE-CF67A706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6C87E-9520-4770-B7EA-D17BE1A6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754B-3DBD-4806-BFDE-24BD78E5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14E38-507A-4BFF-AF9E-A13F87C3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9232-ABD1-454D-934D-4BC4F8A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F014-1910-4B6B-9DA3-65C9010E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1C4A6-62D1-4D04-92BF-2D7D1547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A0789-0FF6-4EB0-B5E6-9D621E7C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51E-08DC-4CE6-9EE6-7954CF06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BE676-6894-41B2-91D1-3FBA8B48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A162E-7BC9-404A-8321-D38A3CC2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00ADC-3D0E-42EF-9B2A-2F094CC1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0EEBB-73A1-4815-B5B4-B00FE467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896DA-0501-482C-A038-99B073D3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13F6D-CB27-4AB9-9A42-A97A4BEA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CCDD6-203A-44DC-857E-B669D4C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B803D-EA42-4704-BB8B-F5A5018F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98026-ED1B-40B7-97F5-318AEC5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774A-EAFB-4387-8A52-65816698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497-341B-4C85-BCE0-11B5C4D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2F5B-0A40-42F5-AD2E-5E2F5ACE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9B48B-C067-49E1-BCEF-E9980925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1C84D-B5A9-4AF7-BC4B-4351B226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20A5C-7725-48FA-9A13-7D2B60FB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A40EC-68D7-4ED3-9019-FCD78C3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3CD39-EB4C-4403-8913-1D3D7F9A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46182-6E9F-4FA2-9729-BEA0C01B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B6981-789A-4433-A111-1DDD7492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ED284-82B9-4BFD-8E85-FEAFF5C8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6BBAE-562C-4AE1-8C2E-F21AFAA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C42-27C9-43FB-9189-C861E54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8BA8E-50C3-4EE9-98AC-E131346E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0EACE-B921-4435-B60A-96A757A3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9E3EA-595A-4CE6-B0A6-211835F3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D869F-2393-460F-A0C9-E3F8E9D4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BCDAF-D0E7-454B-9858-C4D36550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E246F-3DD1-49F5-9B4E-2E8BA572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60F00-557C-4F4C-875D-BE328AD2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2DA5A-9121-45C1-BD7B-51726105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6B39-C9EA-4331-A73B-03FB9774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76423-D055-457B-B214-0EDF620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E7A-29E2-49AF-98AA-E6CD4F3E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C056-C05E-4D72-B5B9-33AE3428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282F6-B7F3-4EC2-9975-601927AA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A8DC8-A348-4086-997B-D6E7D575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F2207-D7D3-492D-920B-3271D21D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034A-C976-449E-AE4B-38F5D941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B71CF-FFCA-4687-AF8E-CAA039B4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354BF-C4A3-435E-ABB4-FF5E2AF0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06103-6B19-4F3A-B125-8B51769A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6ACC5-14F5-4408-9B1E-7C1537BF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D5CA6-890B-4C76-A65C-CE778672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4938-869A-4057-BB65-4D8D2811FFE4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DC47-5937-4188-B505-3AC248F8F8E1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37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440" name="Rectangle 16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7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8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297D-ADB0-4F8C-B6BC-F17E70BC5348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3958-CC42-49AC-BD22-9D327668ED51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86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7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489" name="Rectangle 8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0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1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1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9ADC-E67F-44DE-A8BB-A16F00956778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3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800D-E27D-4038-8328-CCEC1CEB520F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535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6"/>
          <p:cNvGrpSpPr/>
          <p:nvPr/>
        </p:nvGrpSpPr>
        <p:grpSpPr>
          <a:xfrm>
            <a:off x="6729120" y="-12600"/>
            <a:ext cx="73080" cy="6867360"/>
            <a:chOff x="6729120" y="-12600"/>
            <a:chExt cx="73080" cy="6867360"/>
          </a:xfrm>
        </p:grpSpPr>
        <p:sp>
          <p:nvSpPr>
            <p:cNvPr id="538" name="Rectangle 7"/>
            <p:cNvSpPr/>
            <p:nvPr/>
          </p:nvSpPr>
          <p:spPr>
            <a:xfrm flipH="1" rot="5400000">
              <a:off x="3331440" y="3384360"/>
              <a:ext cx="6867360" cy="7308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flipH="1" rot="5400000">
              <a:off x="6352560" y="2514600"/>
              <a:ext cx="825480" cy="7308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flipH="1" rot="5400000">
              <a:off x="6353280" y="1689840"/>
              <a:ext cx="823680" cy="7308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flipH="1" rot="5400000">
              <a:off x="6353280" y="865800"/>
              <a:ext cx="823680" cy="7308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4"/>
          </p:nvPr>
        </p:nvSpPr>
        <p:spPr>
          <a:xfrm>
            <a:off x="6838920" y="6356520"/>
            <a:ext cx="18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A364-1EEA-450C-91FB-D18924C09E52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71FE-62B4-45B5-A3D0-E8A7F31806DE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45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48" name="Rectangle 12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3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4"/>
            <p:cNvSpPr/>
            <p:nvPr/>
          </p:nvSpPr>
          <p:spPr>
            <a:xfrm>
              <a:off x="6278760" y="3268800"/>
              <a:ext cx="1096920" cy="14580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5"/>
            <p:cNvSpPr/>
            <p:nvPr/>
          </p:nvSpPr>
          <p:spPr>
            <a:xfrm>
              <a:off x="7375680" y="3268800"/>
              <a:ext cx="1098360" cy="14580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1631-C300-4F1D-A16A-B10BADA9F68C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3304-E08E-4262-8134-4CB4D099C4D1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97" name="Rectangle 14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7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D01D-8CDD-4B2D-9222-2FD1AD77FC46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DC79-3AE2-476F-A747-A2331F117AA1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43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0" y="4229280"/>
            <a:ext cx="9144000" cy="145800"/>
            <a:chOff x="0" y="4229280"/>
            <a:chExt cx="9144000" cy="145800"/>
          </a:xfrm>
        </p:grpSpPr>
        <p:sp>
          <p:nvSpPr>
            <p:cNvPr id="146" name="Rectangle 13"/>
            <p:cNvSpPr/>
            <p:nvPr/>
          </p:nvSpPr>
          <p:spPr>
            <a:xfrm flipH="1">
              <a:off x="0" y="4229280"/>
              <a:ext cx="9144000" cy="14580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 flipH="1">
              <a:off x="2865240" y="4229280"/>
              <a:ext cx="1096920" cy="14580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 flipH="1">
              <a:off x="1767960" y="4229280"/>
              <a:ext cx="1096920" cy="14580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 flipH="1">
              <a:off x="669600" y="4229280"/>
              <a:ext cx="1098360" cy="14580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CB0F-2FDA-45C3-AA3E-A1ED034F8E3B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9005-898D-47A5-A72A-FC42960AC2D2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192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95" name="Rectangle 15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7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8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565C-5D9B-44A7-9DC3-44899F488183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9FB4-6857-484A-9578-D744376BE9F6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241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6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44" name="Rectangle 17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6278760" y="1371600"/>
              <a:ext cx="1096920" cy="7308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7375680" y="1371600"/>
              <a:ext cx="1098360" cy="7308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5E2D-B75E-4CF2-A1BF-53EB3F35B729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F4B2-EC19-4077-AA0F-4CDC00BB50FC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290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293" name="Rectangle 13"/>
            <p:cNvSpPr/>
            <p:nvPr/>
          </p:nvSpPr>
          <p:spPr>
            <a:xfrm flipH="1">
              <a:off x="0" y="1371600"/>
              <a:ext cx="9144000" cy="7308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 flipH="1">
              <a:off x="2865240" y="1371600"/>
              <a:ext cx="1096920" cy="7308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 flipH="1">
              <a:off x="1767960" y="1371600"/>
              <a:ext cx="1096920" cy="7308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 flipH="1">
              <a:off x="669600" y="1371600"/>
              <a:ext cx="1098360" cy="7308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AF53-78CD-4874-BE95-EA7A0E48BDB6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326F-18D7-47A3-9B37-808A3D7F614C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339" name="Rectangle 6" descr=""/>
            <p:cNvPicPr/>
            <p:nvPr/>
          </p:nvPicPr>
          <p:blipFill>
            <a:blip r:embed="rId3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0"/>
          <p:cNvGrpSpPr/>
          <p:nvPr/>
        </p:nvGrpSpPr>
        <p:grpSpPr>
          <a:xfrm>
            <a:off x="-9360" y="-19080"/>
            <a:ext cx="9144000" cy="147600"/>
            <a:chOff x="-9360" y="-19080"/>
            <a:chExt cx="9144000" cy="147600"/>
          </a:xfrm>
        </p:grpSpPr>
        <p:sp>
          <p:nvSpPr>
            <p:cNvPr id="342" name="Rectangle 11"/>
            <p:cNvSpPr/>
            <p:nvPr/>
          </p:nvSpPr>
          <p:spPr>
            <a:xfrm>
              <a:off x="-9360" y="-19080"/>
              <a:ext cx="9144000" cy="14760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"/>
            <p:cNvSpPr/>
            <p:nvPr/>
          </p:nvSpPr>
          <p:spPr>
            <a:xfrm>
              <a:off x="5486760" y="-19080"/>
              <a:ext cx="1096920" cy="14760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6583680" y="-19080"/>
              <a:ext cx="1096920" cy="14760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"/>
            <p:cNvSpPr/>
            <p:nvPr/>
          </p:nvSpPr>
          <p:spPr>
            <a:xfrm>
              <a:off x="7680600" y="-19080"/>
              <a:ext cx="1096920" cy="14760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33BA-CDF9-4D69-8680-CB7F7F203F60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4E2-BB42-48F3-9E90-EE7F12E69A79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Rectangle 6"/>
          <p:cNvGrpSpPr/>
          <p:nvPr/>
        </p:nvGrpSpPr>
        <p:grpSpPr>
          <a:xfrm>
            <a:off x="-12600" y="-6480"/>
            <a:ext cx="9156600" cy="6297840"/>
            <a:chOff x="-12600" y="-6480"/>
            <a:chExt cx="9156600" cy="6297840"/>
          </a:xfrm>
        </p:grpSpPr>
        <p:pic>
          <p:nvPicPr>
            <p:cNvPr id="388" name="Rectangle 6" descr=""/>
            <p:cNvPicPr/>
            <p:nvPr/>
          </p:nvPicPr>
          <p:blipFill>
            <a:blip r:embed="rId2"/>
            <a:stretch/>
          </p:blipFill>
          <p:spPr>
            <a:xfrm>
              <a:off x="-12600" y="-6480"/>
              <a:ext cx="915660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-6480" y="0"/>
              <a:ext cx="9144000" cy="62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0" y="1143000"/>
            <a:ext cx="9144000" cy="73080"/>
            <a:chOff x="0" y="1143000"/>
            <a:chExt cx="9144000" cy="73080"/>
          </a:xfrm>
        </p:grpSpPr>
        <p:sp>
          <p:nvSpPr>
            <p:cNvPr id="391" name="Rectangle 14"/>
            <p:cNvSpPr/>
            <p:nvPr/>
          </p:nvSpPr>
          <p:spPr>
            <a:xfrm flipH="1">
              <a:off x="0" y="1143000"/>
              <a:ext cx="9144000" cy="7308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flipH="1">
              <a:off x="2865240" y="1143000"/>
              <a:ext cx="1096920" cy="73080"/>
            </a:xfrm>
            <a:prstGeom prst="rect">
              <a:avLst/>
            </a:prstGeom>
            <a:solidFill>
              <a:srgbClr val="6e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6"/>
            <p:cNvSpPr/>
            <p:nvPr/>
          </p:nvSpPr>
          <p:spPr>
            <a:xfrm flipH="1">
              <a:off x="1767960" y="1143000"/>
              <a:ext cx="1096920" cy="73080"/>
            </a:xfrm>
            <a:prstGeom prst="rect">
              <a:avLst/>
            </a:pr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7"/>
            <p:cNvSpPr/>
            <p:nvPr/>
          </p:nvSpPr>
          <p:spPr>
            <a:xfrm flipH="1">
              <a:off x="669600" y="1143000"/>
              <a:ext cx="1098360" cy="73080"/>
            </a:xfrm>
            <a:prstGeom prst="rect">
              <a:avLst/>
            </a:prstGeom>
            <a:solidFill>
              <a:srgbClr val="8d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e848d"/>
              </a:buClr>
              <a:buSzPct val="55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ccaf0a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65739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F5D1-6799-4F1F-A102-2DF60D3D7ADF}" type="datetime">
              <a:rPr b="0" lang="es-AR" sz="1200" spc="-1" strike="noStrike">
                <a:solidFill>
                  <a:srgbClr val="000000"/>
                </a:solidFill>
                <a:latin typeface="Gill Sans MT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4604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856B-B89A-4056-9D91-18D26E1F9F6D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1 Título" descr=""/>
          <p:cNvPicPr/>
          <p:nvPr/>
        </p:nvPicPr>
        <p:blipFill>
          <a:blip r:embed="rId2"/>
          <a:stretch/>
        </p:blipFill>
        <p:spPr>
          <a:xfrm>
            <a:off x="384120" y="-103320"/>
            <a:ext cx="8515440" cy="335916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357200" y="3604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Gill Sans MT"/>
              </a:rPr>
              <a:t>RES 25/11 VIF (BO 21/1/11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ill Sans MT"/>
              </a:rPr>
              <a:t>Humberto J. Bertazz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3 CuadroTexto"/>
          <p:cNvSpPr/>
          <p:nvPr/>
        </p:nvSpPr>
        <p:spPr>
          <a:xfrm>
            <a:off x="428760" y="5857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CPCE 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Jornada 22/3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1 Marcador de número de diapositiva"/>
          <p:cNvSpPr/>
          <p:nvPr/>
        </p:nvSpPr>
        <p:spPr>
          <a:xfrm>
            <a:off x="881856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A730-2F40-4134-952F-DA0FA5F5CA2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42920" y="142920"/>
          <a:ext cx="8858160" cy="638316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48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ill Sans MT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TUO DEL EXTERIOR PROVENIENTE DE UN PARAÍSO FISCAL (EVASIÓN FIS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47840" indent="-1843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OTORGADO POR ENTIDAD BANC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47840" indent="-1843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TORGADO POR ENTIDAD BANCARIA CON CASA MATRIZ NO RADICADA EN UN TERRITORIO COLABORADOR DE LAS NORMAS DE LA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47840" indent="-1843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TORGADO POR ENTIDAD BANCARIA CON CASA MATRIZ NO RADICADA EN UN TERRITORRIO COLABORADOR CON LAS NORMAS DE LAVADO CON TRANSFERENCIA DE FONDOS AL PAÍS VIA BANC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63520" indent="-26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CTURACIÓN DE INGRESOS NO ACORDE CON SERVICIOS PRES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447840" indent="-1796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SUMIDO IMPOSI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447840" indent="-1796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LANQUEO DE FO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63520" indent="-26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ASTOS VINCULADOS AL DESARROLLO DE ACTIVIDADES Y CONSUMOS QUE SI BIEN SON OSTENSIBLES NO ESTÁN DOCUMENTADOS NI DECLARADOS (CONSUMOS LEJOS DE LA REALID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63520" indent="-26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GRESOS RELEVANTES OBTENIDOS DE JUEGOS DE AZAR (CASINO, LOTERIA, E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63520" indent="-26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TROS INGRESOS SIGNIFICATIVOS DERIVADOS DE COMPRAVENTA DE OBRAS DE ARTE, FILATELIA Y NUMISMA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1 Marcador de número de diapositiva"/>
          <p:cNvSpPr/>
          <p:nvPr/>
        </p:nvSpPr>
        <p:spPr>
          <a:xfrm>
            <a:off x="8889840" y="6572160"/>
            <a:ext cx="3254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A88A-9CBF-446C-A57A-C7E7FFC3472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42920" y="60480"/>
          <a:ext cx="8858160" cy="658332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69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ill Sans MT"/>
                        <a:buAutoNum type="arabicParenR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CIONES CON INMUEBLES Y OTROS BI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536400" indent="-1792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BVALUACIÓN EN LA ADQUI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536400" indent="-1792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BREVALUACIÓN  EN LA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ÉSTAMO FAMILIAR O DE TERCEROS SIN LA DEBIDA JUST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768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USTIFICACIÓN DE FONDOS DERIVADOS DE OPERACIONES REALIZADAS EN EL EXTERIOR QUE NO GUARDAN RELACIÓN CON LA ACTIVIDAD DESARROLL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9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PÓSITOS BANCARIOS EN EFECTIVO NO ACORDES CON LA ACTIVIDAD DESARROLL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NACIONES EFECTUADAS A TERC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15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536400" indent="-1792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NACIONES REALIZADAS EN FORMA BANCARIZADA A UNA ENTIDAD SIN FINES DE LUCRO CON PERSONERÍA JURÍDICA, CON CAUSA JUSTIF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536400" indent="-1792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NACIONES EN EFECTIVO A TERCEROS SIN CAUSA APAR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536400" indent="-1792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NACIÓN EN EFECTIVO A UN DESCENDIENTE QUE SE APLICA A LA ADQUISICIÓN DE UN BIEN REGIST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1 Marcador de número de diapositiva"/>
          <p:cNvSpPr/>
          <p:nvPr/>
        </p:nvSpPr>
        <p:spPr>
          <a:xfrm>
            <a:off x="8747280" y="649296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2A02-2193-4457-92D8-6F4597A3152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214200" y="214200"/>
          <a:ext cx="8643960" cy="6072480"/>
        </p:xfrm>
        <a:graphic>
          <a:graphicData uri="http://schemas.openxmlformats.org/drawingml/2006/table">
            <a:tbl>
              <a:tblPr/>
              <a:tblGrid>
                <a:gridCol w="864396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Gill Sans MT"/>
                        <a:buAutoNum type="arabicParenR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ENES ADQUIRIDOS Y DECLARADOS POR UNO DE LOS CÓNYUGES CON FONDOS SUMINISTRADOS POR EL OTRO (ERROR DE DECLARACIÓN PUES CORRESPONDERÍA AL CÓNYUGE TITULAR FISCALMENTE DE LOS FOND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47840" indent="-447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1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TILIZACIÓN DE BIENES COMO SI FUERAN PROPIOS CUYA TITULARIDAD SE ENCUENTRA A NOMBRE DE TERC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47840" indent="-447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1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NENCIA DE EFECTIVO (PESOS O MONEDA EXTRANJERA) DECLARADA IMPOSITIVAM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47840" indent="-447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1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ULACIÓN DE OPERACIÓN DE VENTA DE UN INMUEBLE, GENERANDO UNA JUSTIFICACIÓN PATRIMONIAL A TRAVÉS DE LA INDEMNIZACIÓN RECIBIDA POR LA RESCISIÓN SIN CAUSA APA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47840" indent="-447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Gill Sans MT"/>
                        <a:buAutoNum type="arabicParenR" startAt="1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FERENCIA DE FONDOS RECIBIDA DEL EXTERIOR PROVENIENTE DE UNA HERENCIA FAMILIAR DEBIDAMENTE DOCUMENT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Gill Sans MT"/>
              </a:rPr>
              <a:t>Forma específica de encubrimiento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Gill Sans MT"/>
              </a:rPr>
              <a:t>Relación especie-género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Gill Sans MT"/>
              </a:rPr>
              <a:t>Apartamiento de las legislaciones extranjeras (delito autónomo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7" name="2 Título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588" name="3 Marcador de número de diapositiva"/>
          <p:cNvSpPr/>
          <p:nvPr/>
        </p:nvSpPr>
        <p:spPr>
          <a:xfrm>
            <a:off x="8818560" y="6492960"/>
            <a:ext cx="3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BA6-987F-41B1-AF1B-97F1B1BE72EC}" type="slidenum">
              <a:rPr b="0" lang="es-AR" sz="10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2 Título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8 CuadroTexto"/>
          <p:cNvSpPr/>
          <p:nvPr/>
        </p:nvSpPr>
        <p:spPr>
          <a:xfrm>
            <a:off x="3643200" y="5429160"/>
            <a:ext cx="22147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DELITO DE LA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9 CuadroTexto"/>
          <p:cNvSpPr/>
          <p:nvPr/>
        </p:nvSpPr>
        <p:spPr>
          <a:xfrm>
            <a:off x="6500880" y="5429160"/>
            <a:ext cx="221436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TIPO ESPECIAL DE ENCUB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10 CuadroTexto"/>
          <p:cNvSpPr/>
          <p:nvPr/>
        </p:nvSpPr>
        <p:spPr>
          <a:xfrm>
            <a:off x="571680" y="5429160"/>
            <a:ext cx="221436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DELIT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11 CuadroTexto"/>
          <p:cNvSpPr/>
          <p:nvPr/>
        </p:nvSpPr>
        <p:spPr>
          <a:xfrm>
            <a:off x="642960" y="3500280"/>
            <a:ext cx="22147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DELITO   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12 CuadroTexto"/>
          <p:cNvSpPr/>
          <p:nvPr/>
        </p:nvSpPr>
        <p:spPr>
          <a:xfrm>
            <a:off x="3643200" y="1643040"/>
            <a:ext cx="221472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DELITO DE LAVADO DE 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13 CuadroTexto"/>
          <p:cNvSpPr/>
          <p:nvPr/>
        </p:nvSpPr>
        <p:spPr>
          <a:xfrm>
            <a:off x="3643200" y="3143160"/>
            <a:ext cx="221472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DELITO ORIGINARIO, PRECEDENTE O PRIMIGE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15 Conector recto de flecha"/>
          <p:cNvCxnSpPr>
            <a:stCxn id="592" idx="3"/>
            <a:endCxn id="590" idx="1"/>
          </p:cNvCxnSpPr>
          <p:nvPr/>
        </p:nvCxnSpPr>
        <p:spPr>
          <a:xfrm>
            <a:off x="2785680" y="5785920"/>
            <a:ext cx="857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7" name="17 Conector recto de flecha"/>
          <p:cNvCxnSpPr>
            <a:stCxn id="593" idx="3"/>
            <a:endCxn id="595" idx="1"/>
          </p:cNvCxnSpPr>
          <p:nvPr/>
        </p:nvCxnSpPr>
        <p:spPr>
          <a:xfrm flipV="1">
            <a:off x="2857680" y="3857040"/>
            <a:ext cx="786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8" name="31 Conector recto de flecha"/>
          <p:cNvCxnSpPr>
            <a:stCxn id="594" idx="2"/>
            <a:endCxn id="595" idx="0"/>
          </p:cNvCxnSpPr>
          <p:nvPr/>
        </p:nvCxnSpPr>
        <p:spPr>
          <a:xfrm flipH="1">
            <a:off x="4749480" y="2665080"/>
            <a:ext cx="2160" cy="47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33 Conector recto de flecha"/>
          <p:cNvCxnSpPr>
            <a:stCxn id="595" idx="2"/>
            <a:endCxn id="590" idx="0"/>
          </p:cNvCxnSpPr>
          <p:nvPr/>
        </p:nvCxnSpPr>
        <p:spPr>
          <a:xfrm flipH="1">
            <a:off x="4749480" y="4573440"/>
            <a:ext cx="2160" cy="858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35 Conector recto de flecha"/>
          <p:cNvCxnSpPr>
            <a:stCxn id="590" idx="3"/>
            <a:endCxn id="591" idx="1"/>
          </p:cNvCxnSpPr>
          <p:nvPr/>
        </p:nvCxnSpPr>
        <p:spPr>
          <a:xfrm flipV="1">
            <a:off x="5857920" y="5785560"/>
            <a:ext cx="643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1" name="36 Marcador de número de diapositiva"/>
          <p:cNvSpPr/>
          <p:nvPr/>
        </p:nvSpPr>
        <p:spPr>
          <a:xfrm>
            <a:off x="8818560" y="6492960"/>
            <a:ext cx="3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DE07-ADD1-4223-AD4A-F913385E6984}" type="slidenum">
              <a:rPr b="0" lang="es-AR" sz="10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2 Título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603" name="3 CuadroTexto"/>
          <p:cNvSpPr/>
          <p:nvPr/>
        </p:nvSpPr>
        <p:spPr>
          <a:xfrm>
            <a:off x="142920" y="2286000"/>
            <a:ext cx="221436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ASPECTO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4 CuadroTexto"/>
          <p:cNvSpPr/>
          <p:nvPr/>
        </p:nvSpPr>
        <p:spPr>
          <a:xfrm>
            <a:off x="571680" y="4572000"/>
            <a:ext cx="221436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ASPECTO SU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5 CuadroTexto"/>
          <p:cNvSpPr/>
          <p:nvPr/>
        </p:nvSpPr>
        <p:spPr>
          <a:xfrm>
            <a:off x="571680" y="5929200"/>
            <a:ext cx="221436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M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6 CuadroTexto"/>
          <p:cNvSpPr/>
          <p:nvPr/>
        </p:nvSpPr>
        <p:spPr>
          <a:xfrm>
            <a:off x="2786040" y="1643040"/>
            <a:ext cx="22147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CONDUCTA TÍ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7 CuadroTexto"/>
          <p:cNvSpPr/>
          <p:nvPr/>
        </p:nvSpPr>
        <p:spPr>
          <a:xfrm>
            <a:off x="2714760" y="3214800"/>
            <a:ext cx="221436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8 CuadroTexto"/>
          <p:cNvSpPr/>
          <p:nvPr/>
        </p:nvSpPr>
        <p:spPr>
          <a:xfrm>
            <a:off x="5072040" y="2968560"/>
            <a:ext cx="1928880" cy="81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Gill Sans MT"/>
              </a:rPr>
              <a:t>CON LA CONSECUENCIA PO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9 CuadroTexto"/>
          <p:cNvSpPr/>
          <p:nvPr/>
        </p:nvSpPr>
        <p:spPr>
          <a:xfrm>
            <a:off x="7215120" y="2968560"/>
            <a:ext cx="1928880" cy="104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Gill Sans MT"/>
              </a:rPr>
              <a:t>BIENES ADQUIERAN APARIENCIA DE LICIT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11 Conector recto de flecha"/>
          <p:cNvCxnSpPr>
            <a:stCxn id="608" idx="3"/>
            <a:endCxn id="609" idx="1"/>
          </p:cNvCxnSpPr>
          <p:nvPr/>
        </p:nvCxnSpPr>
        <p:spPr>
          <a:xfrm>
            <a:off x="7000560" y="3378240"/>
            <a:ext cx="2149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1" name="12 CuadroTexto"/>
          <p:cNvSpPr/>
          <p:nvPr/>
        </p:nvSpPr>
        <p:spPr>
          <a:xfrm>
            <a:off x="5786280" y="1428840"/>
            <a:ext cx="1714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ONVERT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TRANSFE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DMINIST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V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GRA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PLI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13 CuadroTexto"/>
          <p:cNvSpPr/>
          <p:nvPr/>
        </p:nvSpPr>
        <p:spPr>
          <a:xfrm>
            <a:off x="7572240" y="1714680"/>
            <a:ext cx="157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INERO U OTRA CLASE DE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14 Cerrar llave"/>
          <p:cNvSpPr/>
          <p:nvPr/>
        </p:nvSpPr>
        <p:spPr>
          <a:xfrm>
            <a:off x="7358040" y="1500120"/>
            <a:ext cx="142920" cy="128592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285920"/>
              <a:gd name="textAreaBottom" fmla="*/ 128232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16 Conector recto de flecha"/>
          <p:cNvCxnSpPr>
            <a:stCxn id="603" idx="3"/>
            <a:endCxn id="606" idx="1"/>
          </p:cNvCxnSpPr>
          <p:nvPr/>
        </p:nvCxnSpPr>
        <p:spPr>
          <a:xfrm flipV="1">
            <a:off x="2356920" y="2000160"/>
            <a:ext cx="4294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5" name="20 Conector recto de flecha"/>
          <p:cNvCxnSpPr>
            <a:stCxn id="603" idx="3"/>
            <a:endCxn id="607" idx="1"/>
          </p:cNvCxnSpPr>
          <p:nvPr/>
        </p:nvCxnSpPr>
        <p:spPr>
          <a:xfrm>
            <a:off x="2356920" y="2642760"/>
            <a:ext cx="358200" cy="777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6" name="24 CuadroTexto"/>
          <p:cNvSpPr/>
          <p:nvPr/>
        </p:nvSpPr>
        <p:spPr>
          <a:xfrm>
            <a:off x="5500800" y="37861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ELITO DE PELI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25 CuadroTexto"/>
          <p:cNvSpPr/>
          <p:nvPr/>
        </p:nvSpPr>
        <p:spPr>
          <a:xfrm>
            <a:off x="3000240" y="4429080"/>
            <a:ext cx="5929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ORMA DOLOSA (CONOCIMIENTO DEL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E EXCLUYE LA EXPRESIÓN “A SABIENDAS” (PROYECTO CD) DE DOLO DIRECTO (POSIBILIDAD DOLO EVEN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ONTO DEL LAVADO $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LEMENTO DEL TIPO Y NO COMO PRESUPUESTO DE P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ONTO INFERIOR: ENCUBRIMIENTO GENÉ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26 Marcador de número de diapositiva"/>
          <p:cNvSpPr/>
          <p:nvPr/>
        </p:nvSpPr>
        <p:spPr>
          <a:xfrm>
            <a:off x="8818560" y="6492960"/>
            <a:ext cx="3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3386-BD31-43AA-BB9D-03109FFAFDC0}" type="slidenum">
              <a:rPr b="0" lang="es-AR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 MT"/>
              </a:rPr>
              <a:t>Son aquellas operaciones tentadas o realizadas en forma aislada o reiterada, sin justificación económica y/o jurídica, que no guardan relación con el perfil económico financiero del cliente, desviándose de los usos y costumbres en las prácticas de mercado, ya sea por su frecuencia, habitualidad, monto, complejidad, naturaleza y/o características particular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0" name="2 Título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621" name="3 Marcador de número de diapositiva"/>
          <p:cNvSpPr/>
          <p:nvPr/>
        </p:nvSpPr>
        <p:spPr>
          <a:xfrm>
            <a:off x="8818560" y="6492960"/>
            <a:ext cx="3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F491-628E-49BB-96B8-A85CF54FCADD}" type="slidenum">
              <a:rPr b="0" lang="es-AR" sz="10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ill Sans MT"/>
              </a:rPr>
              <a:t>Son aquellas operaciones tentadas o realizadas que habiéndose identificado previamente como inusuales, luego del análisis y evaluación realizados por el sujeto obligado, las mismas no guardan relación con las actividades lícitas declaradas por el cliente, ocasionando sospecha de Lavado de Activos o aún tratándose de operaciones relacionadas con actividades lícitas, exista sospecha de que estén vinculadas o que vayan a ser utilizadas para la Financiación del Terroris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3" name="2 Título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624" name="3 Marcador de número de diapositiva"/>
          <p:cNvSpPr/>
          <p:nvPr/>
        </p:nvSpPr>
        <p:spPr>
          <a:xfrm>
            <a:off x="8818560" y="6492960"/>
            <a:ext cx="3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B22-EA9B-4719-B3FB-D5311E80C75B}" type="slidenum">
              <a:rPr b="0" lang="es-AR" sz="10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-360" y="149976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ill Sans MT"/>
              </a:rPr>
              <a:t>Profesionales matriculados cuyas actividades estén reguladas por los CPCE (ley 20488) que reglamenta su ejercici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4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ill Sans MT"/>
              </a:rPr>
              <a:t>Profesionales independientes que presten el servicio de preparación de las DDJJ impositivas de las siguientes personas físic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Otros sujetos obligados (Art. 20 de la ley 2524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Restantes sujetos, según los estados contables auditad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Gill Sans MT"/>
              </a:rPr>
              <a:t>Activo superior a $3.000.00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19960" indent="-223920">
              <a:spcBef>
                <a:spcPts val="499"/>
              </a:spcBef>
              <a:buClr>
                <a:srgbClr val="9e9273"/>
              </a:buClr>
              <a:buSzPct val="57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Gill Sans MT"/>
              </a:rPr>
              <a:t>Duplicación de activos o ventas en 1 año (información proveniente de los estados contables auditado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64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ill Sans MT"/>
              </a:rPr>
              <a:t>Esta obligado a informar quien tenga a su cargo la prestación del servici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6" name="2 Título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627" name="3 Marcador de número de diapositiva"/>
          <p:cNvSpPr/>
          <p:nvPr/>
        </p:nvSpPr>
        <p:spPr>
          <a:xfrm>
            <a:off x="8796240" y="6492960"/>
            <a:ext cx="347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18A3-5463-4601-9045-90C40DD532DD}" type="slidenum">
              <a:rPr b="0" lang="es-AR" sz="10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214200" y="1589040"/>
            <a:ext cx="8715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 MT"/>
              </a:rPr>
              <a:t>Impuestos nacionales (IG, IGMP, IBP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 MT"/>
              </a:rPr>
              <a:t>No se consideran impuestos provinciales ni municipa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 MT"/>
              </a:rPr>
              <a:t>El servicio de prepar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spcBef>
                <a:spcPts val="700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ill Sans MT"/>
              </a:rPr>
              <a:t>Asesoramiento impositiv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spcBef>
                <a:spcPts val="700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ill Sans MT"/>
              </a:rPr>
              <a:t>Determinación y liquid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spcBef>
                <a:spcPts val="700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ill Sans MT"/>
              </a:rPr>
              <a:t>Aplicativ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spcBef>
                <a:spcPts val="700"/>
              </a:spcBef>
              <a:buClr>
                <a:srgbClr val="748560"/>
              </a:buClr>
              <a:buSzPct val="6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ill Sans MT"/>
              </a:rPr>
              <a:t>Revisión conceptu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799"/>
              </a:spcBef>
              <a:buClr>
                <a:srgbClr val="3b3b3b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 MT"/>
              </a:rPr>
              <a:t>No incluye servicio de asesoramiento impositiv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9" name="2 Título" descr=""/>
          <p:cNvPicPr/>
          <p:nvPr/>
        </p:nvPicPr>
        <p:blipFill>
          <a:blip r:embed="rId1"/>
          <a:stretch/>
        </p:blipFill>
        <p:spPr>
          <a:xfrm>
            <a:off x="165240" y="-115920"/>
            <a:ext cx="8528040" cy="1530360"/>
          </a:xfrm>
          <a:prstGeom prst="rect">
            <a:avLst/>
          </a:prstGeom>
          <a:ln w="0">
            <a:noFill/>
          </a:ln>
        </p:spPr>
      </p:pic>
      <p:sp>
        <p:nvSpPr>
          <p:cNvPr id="630" name="3 Marcador de número de diapositiva"/>
          <p:cNvSpPr/>
          <p:nvPr/>
        </p:nvSpPr>
        <p:spPr>
          <a:xfrm>
            <a:off x="8818560" y="6492960"/>
            <a:ext cx="32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E693-32AD-459B-B2AE-0CCF1E3415E1}" type="slidenum">
              <a:rPr b="0" lang="es-AR" sz="10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1 Título"/>
          <p:cNvSpPr/>
          <p:nvPr/>
        </p:nvSpPr>
        <p:spPr>
          <a:xfrm>
            <a:off x="1285920" y="1571760"/>
            <a:ext cx="6477120" cy="21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0000"/>
                </a:solidFill>
                <a:latin typeface="Gill Sans MT"/>
              </a:rPr>
              <a:t>CASOS PRÁCTIC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30:33Z</dcterms:created>
  <dc:creator>Nancy</dc:creator>
  <dc:description/>
  <dc:language>en-US</dc:language>
  <cp:lastModifiedBy>CPCEACABA</cp:lastModifiedBy>
  <dcterms:modified xsi:type="dcterms:W3CDTF">2011-03-23T21:20:29Z</dcterms:modified>
  <cp:revision>12</cp:revision>
  <dc:subject/>
  <dc:title>RÉGIMEN DE INFORMACIÓN DE OPERACIONES SOSPECHOSAS DE LAVADO DE ACTIVOS EN EL CASO DE DECLARACIONES JURADAS IMPOSITIVAS</dc:title>
</cp:coreProperties>
</file>